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D2EC-63EE-4BE4-9FD6-4CBE8E276A1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3878-9903-4F13-865B-EEF0AD8A0F9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última reunião foi em final de agosto, início de setembro, então temos o andamento de 6 meses de trabalh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ioria dos senhores estava presente, então devem se lembrar um pouco do que foi apresentad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quela oportunidade, fizemos uma apresentação detalhando um pouco o sistema e seus subsistemas e para cada subsistema apresentamos o estágio de desenvolvimento. Para esta então nós suprimimos a parte que explica os subsistemas e vamos apresentar diretamente os andamentos. Algumas atividades até já foram apresentadas na última reunião, na forma de atividade em andamento, e agora elas aparecem como atividades concluíd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0376-7828-4E07-BD68-405DAF6854F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94CF-8B3E-4B98-97D6-964AEEEAF6C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7CA0-BFD8-41A1-B5BB-97386C258E5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A4F0-B862-44EC-9A94-BEDE9BF1C20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B772-4BE4-4B06-B4FE-92CF14FD550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128A-0436-45F9-A940-4C724BD4C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C2CC-CE54-448F-8A7D-B3657D87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2888-1BD0-4A90-A10C-FB42ADCCA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9274-B998-4366-9EAB-21C45C1D2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7144-51A3-4CCC-9043-5A8C2B32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5F66-A115-452A-8322-5598F0A8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99DC-A912-48FB-A413-90436126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D1AE-4C5D-4117-A748-0DF88F91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D292-FCB1-4845-BD91-A265E7BD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8944-326D-4BAD-B5EE-B589E2A6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F9F6-89AC-4D11-A001-C0B33519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281D-298E-4740-A0A9-DAB0FFB0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8127-5B38-46FC-A326-F9BB900A519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4868640"/>
            <a:ext cx="8610480" cy="134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504d"/>
                </a:solidFill>
                <a:latin typeface="Calibri"/>
              </a:rPr>
              <a:t>Agência Nacional de Águas</a:t>
            </a:r>
            <a:br>
              <a:rPr sz="2400"/>
            </a:br>
            <a:r>
              <a:rPr b="1" lang="pt-BR" sz="2400" spc="-1" strike="noStrike">
                <a:solidFill>
                  <a:srgbClr val="c0504d"/>
                </a:solidFill>
                <a:latin typeface="Calibri"/>
              </a:rPr>
              <a:t>Superintendência de Gestão da Informação - SG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2744640"/>
            <a:ext cx="835344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Calibri"/>
              </a:rPr>
              <a:t>Sistema Nacional de Informações sobre Recursos Hídricos - SNIRH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66760" y="3857760"/>
            <a:ext cx="861048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  <a:ea typeface="Arial"/>
              </a:rPr>
              <a:t>CNARH – SINCRON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>
            <a:alphaModFix amt="6000"/>
          </a:blip>
          <a:stretch/>
        </p:blipFill>
        <p:spPr>
          <a:xfrm>
            <a:off x="3214800" y="1000080"/>
            <a:ext cx="2376360" cy="16318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4133880" y="6224760"/>
            <a:ext cx="50101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Arial"/>
              </a:rPr>
              <a:t>Maurício Cezar Rebello Cordei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CNARH - Sincronis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8" descr=""/>
          <p:cNvPicPr/>
          <p:nvPr/>
        </p:nvPicPr>
        <p:blipFill>
          <a:blip r:embed="rId1"/>
          <a:stretch/>
        </p:blipFill>
        <p:spPr>
          <a:xfrm>
            <a:off x="214200" y="1143000"/>
            <a:ext cx="6286680" cy="2724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2"/>
          <a:stretch/>
        </p:blipFill>
        <p:spPr>
          <a:xfrm>
            <a:off x="214200" y="2771640"/>
            <a:ext cx="6715080" cy="4086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395280" y="84312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Calibri"/>
              </a:rPr>
              <a:t>Cadastro Simplifi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ço Reservado para Conteúdo 2"/>
          <p:cNvSpPr/>
          <p:nvPr/>
        </p:nvSpPr>
        <p:spPr>
          <a:xfrm>
            <a:off x="250920" y="1413000"/>
            <a:ext cx="849780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 cadastro atual (CNARH completo) é base para a implementação de outros instrumentos de gestão pela ANA: outorga e cobranç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or esse motivo, um grande número de dados são solicitadas a serem preenchidas pelo usuário no cadastro completo, que dizem respeito, não somente a ao cadastro, mas aos outros instrumentos de gest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s informações para a implementação dos outros instrumentos, variam de estado para esta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or esses motivos, a ANA está desenvolvendo o Cadastro Simplificado (CNARH Simplificado), com o seguinte funcionamen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reenchimento somente com dados de cadastro do usuário, com dados de hidrologi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Caso seja um usuário “não passível de outorga” e em rio de domínio da união, será emitido uma declaração de regulariza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Caso seja um usuário “passível de outorga”, em rio de domínio da união o sistema irá direcionar para o preenchimento de outros dados relacionados a outorga, e se for o caso, cobranç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1285920" y="0"/>
            <a:ext cx="6500880" cy="4857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1285920" y="4143240"/>
            <a:ext cx="65008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Grupo 7"/>
          <p:cNvGrpSpPr/>
          <p:nvPr/>
        </p:nvGrpSpPr>
        <p:grpSpPr>
          <a:xfrm>
            <a:off x="928800" y="0"/>
            <a:ext cx="6929280" cy="6858000"/>
            <a:chOff x="928800" y="0"/>
            <a:chExt cx="6929280" cy="6858000"/>
          </a:xfrm>
        </p:grpSpPr>
        <p:pic>
          <p:nvPicPr>
            <p:cNvPr id="140" name="Picture 2" descr=""/>
            <p:cNvPicPr/>
            <p:nvPr/>
          </p:nvPicPr>
          <p:blipFill>
            <a:blip r:embed="rId1"/>
            <a:stretch/>
          </p:blipFill>
          <p:spPr>
            <a:xfrm>
              <a:off x="928800" y="0"/>
              <a:ext cx="692928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5" descr=""/>
            <p:cNvPicPr/>
            <p:nvPr/>
          </p:nvPicPr>
          <p:blipFill>
            <a:blip r:embed="rId2"/>
            <a:stretch/>
          </p:blipFill>
          <p:spPr>
            <a:xfrm>
              <a:off x="928800" y="4929120"/>
              <a:ext cx="6929280" cy="192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Grupo 8"/>
          <p:cNvGrpSpPr/>
          <p:nvPr/>
        </p:nvGrpSpPr>
        <p:grpSpPr>
          <a:xfrm>
            <a:off x="928800" y="0"/>
            <a:ext cx="7358040" cy="6858000"/>
            <a:chOff x="928800" y="0"/>
            <a:chExt cx="7358040" cy="6858000"/>
          </a:xfrm>
        </p:grpSpPr>
        <p:pic>
          <p:nvPicPr>
            <p:cNvPr id="147" name="Picture 2" descr=""/>
            <p:cNvPicPr/>
            <p:nvPr/>
          </p:nvPicPr>
          <p:blipFill>
            <a:blip r:embed="rId1"/>
            <a:stretch/>
          </p:blipFill>
          <p:spPr>
            <a:xfrm>
              <a:off x="928800" y="0"/>
              <a:ext cx="7358040" cy="493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3" descr=""/>
            <p:cNvPicPr/>
            <p:nvPr/>
          </p:nvPicPr>
          <p:blipFill>
            <a:blip r:embed="rId2"/>
            <a:stretch/>
          </p:blipFill>
          <p:spPr>
            <a:xfrm>
              <a:off x="928800" y="4714920"/>
              <a:ext cx="7358040" cy="21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5" descr=""/>
            <p:cNvPicPr/>
            <p:nvPr/>
          </p:nvPicPr>
          <p:blipFill>
            <a:blip r:embed="rId3"/>
            <a:stretch/>
          </p:blipFill>
          <p:spPr>
            <a:xfrm>
              <a:off x="5429520" y="6500880"/>
              <a:ext cx="1500120" cy="15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143000" y="0"/>
            <a:ext cx="6929280" cy="5214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2"/>
          <a:stretch/>
        </p:blipFill>
        <p:spPr>
          <a:xfrm>
            <a:off x="1143000" y="4929120"/>
            <a:ext cx="692928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85688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struturas de dados complexas e bastante heterogên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istemas com diferentes níveis de maturid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onceitos diferentes (ex. empreendimento integrado X ponto de captaçã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395280" y="107172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Calibri"/>
              </a:rPr>
              <a:t>Dificuldades para integração de d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upo 12"/>
          <p:cNvGrpSpPr/>
          <p:nvPr/>
        </p:nvGrpSpPr>
        <p:grpSpPr>
          <a:xfrm>
            <a:off x="1783440" y="3529080"/>
            <a:ext cx="5299200" cy="3260520"/>
            <a:chOff x="1783440" y="3529080"/>
            <a:chExt cx="5299200" cy="3260520"/>
          </a:xfrm>
        </p:grpSpPr>
        <p:pic>
          <p:nvPicPr>
            <p:cNvPr id="58" name="Picture 5" descr=""/>
            <p:cNvPicPr/>
            <p:nvPr/>
          </p:nvPicPr>
          <p:blipFill>
            <a:blip r:embed="rId2"/>
            <a:stretch/>
          </p:blipFill>
          <p:spPr>
            <a:xfrm>
              <a:off x="2143080" y="3529080"/>
              <a:ext cx="4643640" cy="32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CaixaDeTexto 6"/>
            <p:cNvSpPr/>
            <p:nvPr/>
          </p:nvSpPr>
          <p:spPr>
            <a:xfrm>
              <a:off x="2648520" y="3714480"/>
              <a:ext cx="787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alibri"/>
                </a:rPr>
                <a:t>CNAR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CaixaDeTexto 7"/>
            <p:cNvSpPr/>
            <p:nvPr/>
          </p:nvSpPr>
          <p:spPr>
            <a:xfrm>
              <a:off x="5355360" y="3714480"/>
              <a:ext cx="10126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alibri"/>
                </a:rPr>
                <a:t>ESTADO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aixaDeTexto 8"/>
            <p:cNvSpPr/>
            <p:nvPr/>
          </p:nvSpPr>
          <p:spPr>
            <a:xfrm>
              <a:off x="1783440" y="5000760"/>
              <a:ext cx="10126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alibri"/>
                </a:rPr>
                <a:t>ESTADO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CaixaDeTexto 9"/>
            <p:cNvSpPr/>
            <p:nvPr/>
          </p:nvSpPr>
          <p:spPr>
            <a:xfrm>
              <a:off x="6069960" y="5072040"/>
              <a:ext cx="10126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alibri"/>
                </a:rPr>
                <a:t>ESTADO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CaixaDeTexto 10"/>
            <p:cNvSpPr/>
            <p:nvPr/>
          </p:nvSpPr>
          <p:spPr>
            <a:xfrm>
              <a:off x="2497680" y="6358320"/>
              <a:ext cx="10126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alibri"/>
                </a:rPr>
                <a:t>ESTADO 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50012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efinição do conjunto mínimo de dados a serem integrados (Balanço Hídric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stabelecimento de padrão para intercâmbio de d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esenvolvimento de aplicativo para sincronis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enários distin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395280" y="857160"/>
            <a:ext cx="83534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Calibri"/>
              </a:rPr>
              <a:t>CNARH - Sincronis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upo 13"/>
          <p:cNvGrpSpPr/>
          <p:nvPr/>
        </p:nvGrpSpPr>
        <p:grpSpPr>
          <a:xfrm>
            <a:off x="2069280" y="3643200"/>
            <a:ext cx="4942080" cy="2981520"/>
            <a:chOff x="2069280" y="3643200"/>
            <a:chExt cx="4942080" cy="2981520"/>
          </a:xfrm>
        </p:grpSpPr>
        <p:pic>
          <p:nvPicPr>
            <p:cNvPr id="68" name="Picture 6" descr=""/>
            <p:cNvPicPr/>
            <p:nvPr/>
          </p:nvPicPr>
          <p:blipFill>
            <a:blip r:embed="rId2"/>
            <a:stretch/>
          </p:blipFill>
          <p:spPr>
            <a:xfrm>
              <a:off x="2457360" y="3643200"/>
              <a:ext cx="4229280" cy="298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CaixaDeTexto 7"/>
            <p:cNvSpPr/>
            <p:nvPr/>
          </p:nvSpPr>
          <p:spPr>
            <a:xfrm>
              <a:off x="2934360" y="3714480"/>
              <a:ext cx="787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alibri"/>
                </a:rPr>
                <a:t>CNAR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CaixaDeTexto 8"/>
            <p:cNvSpPr/>
            <p:nvPr/>
          </p:nvSpPr>
          <p:spPr>
            <a:xfrm>
              <a:off x="5355720" y="3714480"/>
              <a:ext cx="10126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alibri"/>
                </a:rPr>
                <a:t>ESTADO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CaixaDeTexto 9"/>
            <p:cNvSpPr/>
            <p:nvPr/>
          </p:nvSpPr>
          <p:spPr>
            <a:xfrm>
              <a:off x="2069280" y="4929120"/>
              <a:ext cx="10126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alibri"/>
                </a:rPr>
                <a:t>ESTADO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CaixaDeTexto 10"/>
            <p:cNvSpPr/>
            <p:nvPr/>
          </p:nvSpPr>
          <p:spPr>
            <a:xfrm>
              <a:off x="5998680" y="4929120"/>
              <a:ext cx="10126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alibri"/>
                </a:rPr>
                <a:t>ESTADO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CaixaDeTexto 11"/>
            <p:cNvSpPr/>
            <p:nvPr/>
          </p:nvSpPr>
          <p:spPr>
            <a:xfrm>
              <a:off x="2712240" y="6215400"/>
              <a:ext cx="10126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alibri"/>
                </a:rPr>
                <a:t>ESTADO 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CaixaDeTexto 12"/>
            <p:cNvSpPr/>
            <p:nvPr/>
          </p:nvSpPr>
          <p:spPr>
            <a:xfrm>
              <a:off x="3972600" y="5000760"/>
              <a:ext cx="11988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Calibri"/>
                </a:rPr>
                <a:t>Padrão XM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CaixaDeTexto 5"/>
          <p:cNvSpPr/>
          <p:nvPr/>
        </p:nvSpPr>
        <p:spPr>
          <a:xfrm>
            <a:off x="320760" y="2286000"/>
            <a:ext cx="8502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Cenário 1 - Estado utiliza integralmente o CNARH na 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É feita uma cópia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integral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dos dados do CNARH no estado, com a mesma estrutura de dados do CNARH orig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partir dessa cópia, estado pode manipular os 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Cenário 2 – Estado utiliza sistema de cadastro própr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onjunto mínimo de dados para balanço híd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395280" y="107172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Calibri"/>
              </a:rPr>
              <a:t>CNARH - Sincronis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tângulo 4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Object 2" descr=""/>
          <p:cNvPicPr/>
          <p:nvPr/>
        </p:nvPicPr>
        <p:blipFill>
          <a:blip r:embed="rId1"/>
          <a:stretch/>
        </p:blipFill>
        <p:spPr>
          <a:xfrm>
            <a:off x="0" y="1643040"/>
            <a:ext cx="8653320" cy="4857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82" name="Retângulo 77"/>
          <p:cNvSpPr/>
          <p:nvPr/>
        </p:nvSpPr>
        <p:spPr>
          <a:xfrm>
            <a:off x="1071720" y="857160"/>
            <a:ext cx="70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Visão Unificada CNARH – Sincronismo (Cenário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Utilizam o CNARH como Cadastro Esta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onector reto 10"/>
          <p:cNvSpPr/>
          <p:nvPr/>
        </p:nvSpPr>
        <p:spPr>
          <a:xfrm>
            <a:off x="5572080" y="6072120"/>
            <a:ext cx="0" cy="500040"/>
          </a:xfrm>
          <a:prstGeom prst="line">
            <a:avLst/>
          </a:prstGeom>
          <a:ln w="572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onector reto 8"/>
          <p:cNvSpPr/>
          <p:nvPr/>
        </p:nvSpPr>
        <p:spPr>
          <a:xfrm flipH="1">
            <a:off x="5643360" y="3857760"/>
            <a:ext cx="3143160" cy="0"/>
          </a:xfrm>
          <a:prstGeom prst="line">
            <a:avLst/>
          </a:prstGeom>
          <a:ln w="572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onector reto 14"/>
          <p:cNvSpPr/>
          <p:nvPr/>
        </p:nvSpPr>
        <p:spPr>
          <a:xfrm>
            <a:off x="5572080" y="3643200"/>
            <a:ext cx="0" cy="714600"/>
          </a:xfrm>
          <a:prstGeom prst="line">
            <a:avLst/>
          </a:prstGeom>
          <a:ln w="572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onector reto 16"/>
          <p:cNvSpPr/>
          <p:nvPr/>
        </p:nvSpPr>
        <p:spPr>
          <a:xfrm>
            <a:off x="5572080" y="1571760"/>
            <a:ext cx="0" cy="571320"/>
          </a:xfrm>
          <a:prstGeom prst="line">
            <a:avLst/>
          </a:prstGeom>
          <a:ln w="572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onector reto 18"/>
          <p:cNvSpPr/>
          <p:nvPr/>
        </p:nvSpPr>
        <p:spPr>
          <a:xfrm>
            <a:off x="5572080" y="5072040"/>
            <a:ext cx="0" cy="214200"/>
          </a:xfrm>
          <a:prstGeom prst="line">
            <a:avLst/>
          </a:prstGeom>
          <a:ln w="572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onector reto 20"/>
          <p:cNvSpPr/>
          <p:nvPr/>
        </p:nvSpPr>
        <p:spPr>
          <a:xfrm>
            <a:off x="5572080" y="2714760"/>
            <a:ext cx="0" cy="214200"/>
          </a:xfrm>
          <a:prstGeom prst="line">
            <a:avLst/>
          </a:prstGeom>
          <a:ln w="572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onector reto 21"/>
          <p:cNvSpPr/>
          <p:nvPr/>
        </p:nvSpPr>
        <p:spPr>
          <a:xfrm>
            <a:off x="2928960" y="1643040"/>
            <a:ext cx="0" cy="928800"/>
          </a:xfrm>
          <a:prstGeom prst="line">
            <a:avLst/>
          </a:prstGeom>
          <a:ln w="572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onector reto 22"/>
          <p:cNvSpPr/>
          <p:nvPr/>
        </p:nvSpPr>
        <p:spPr>
          <a:xfrm>
            <a:off x="2928960" y="5857920"/>
            <a:ext cx="0" cy="785880"/>
          </a:xfrm>
          <a:prstGeom prst="line">
            <a:avLst/>
          </a:prstGeom>
          <a:ln w="572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onector reto 23"/>
          <p:cNvSpPr/>
          <p:nvPr/>
        </p:nvSpPr>
        <p:spPr>
          <a:xfrm>
            <a:off x="2928960" y="3214800"/>
            <a:ext cx="0" cy="714240"/>
          </a:xfrm>
          <a:prstGeom prst="line">
            <a:avLst/>
          </a:prstGeom>
          <a:ln w="572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onector reto 24"/>
          <p:cNvSpPr/>
          <p:nvPr/>
        </p:nvSpPr>
        <p:spPr>
          <a:xfrm>
            <a:off x="2928960" y="4572000"/>
            <a:ext cx="0" cy="714240"/>
          </a:xfrm>
          <a:prstGeom prst="line">
            <a:avLst/>
          </a:prstGeom>
          <a:ln w="572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tângulo 17"/>
          <p:cNvSpPr/>
          <p:nvPr/>
        </p:nvSpPr>
        <p:spPr>
          <a:xfrm>
            <a:off x="7286760" y="4143240"/>
            <a:ext cx="1714320" cy="1857600"/>
          </a:xfrm>
          <a:prstGeom prst="rect">
            <a:avLst/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Relató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Sistema de Outor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(..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tângulo 4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142920" y="1790640"/>
            <a:ext cx="8772480" cy="4857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98" name="Retângulo 77"/>
          <p:cNvSpPr/>
          <p:nvPr/>
        </p:nvSpPr>
        <p:spPr>
          <a:xfrm>
            <a:off x="1071720" y="785880"/>
            <a:ext cx="70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Visão Unificada CNARH – Sincronismo (Cenário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Não utiliza o CNARH como Cadastro Estadual – Possui seu próprio siste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onector reto 9"/>
          <p:cNvSpPr/>
          <p:nvPr/>
        </p:nvSpPr>
        <p:spPr>
          <a:xfrm>
            <a:off x="5715000" y="3929040"/>
            <a:ext cx="0" cy="714240"/>
          </a:xfrm>
          <a:prstGeom prst="line">
            <a:avLst/>
          </a:prstGeom>
          <a:ln w="572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onector reto 10"/>
          <p:cNvSpPr/>
          <p:nvPr/>
        </p:nvSpPr>
        <p:spPr>
          <a:xfrm>
            <a:off x="5715000" y="1714680"/>
            <a:ext cx="0" cy="1714320"/>
          </a:xfrm>
          <a:prstGeom prst="line">
            <a:avLst/>
          </a:prstGeom>
          <a:ln w="572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onector reto 13"/>
          <p:cNvSpPr/>
          <p:nvPr/>
        </p:nvSpPr>
        <p:spPr>
          <a:xfrm>
            <a:off x="3071880" y="1643040"/>
            <a:ext cx="0" cy="1714680"/>
          </a:xfrm>
          <a:prstGeom prst="line">
            <a:avLst/>
          </a:prstGeom>
          <a:ln w="572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onector reto 14"/>
          <p:cNvSpPr/>
          <p:nvPr/>
        </p:nvSpPr>
        <p:spPr>
          <a:xfrm>
            <a:off x="3071880" y="3857760"/>
            <a:ext cx="0" cy="714240"/>
          </a:xfrm>
          <a:prstGeom prst="line">
            <a:avLst/>
          </a:prstGeom>
          <a:ln w="572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onector reto 15"/>
          <p:cNvSpPr/>
          <p:nvPr/>
        </p:nvSpPr>
        <p:spPr>
          <a:xfrm>
            <a:off x="5715000" y="5143680"/>
            <a:ext cx="0" cy="1714320"/>
          </a:xfrm>
          <a:prstGeom prst="line">
            <a:avLst/>
          </a:prstGeom>
          <a:ln w="572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onector reto 17"/>
          <p:cNvSpPr/>
          <p:nvPr/>
        </p:nvSpPr>
        <p:spPr>
          <a:xfrm>
            <a:off x="3071880" y="5143680"/>
            <a:ext cx="0" cy="1714320"/>
          </a:xfrm>
          <a:prstGeom prst="line">
            <a:avLst/>
          </a:prstGeom>
          <a:ln w="572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tângulo 4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52280" y="304920"/>
          <a:ext cx="8801280" cy="6343560"/>
        </p:xfrm>
        <a:graphic>
          <a:graphicData uri="http://schemas.openxmlformats.org/drawingml/2006/table">
            <a:tbl>
              <a:tblPr/>
              <a:tblGrid>
                <a:gridCol w="1797120"/>
                <a:gridCol w="2317680"/>
                <a:gridCol w="4686480"/>
              </a:tblGrid>
              <a:tr h="198360"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pos mínimos para compartilhamento de dados de usuários com os órgaos estaduais para fins de balanço hídric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360"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ntos de interferência: Superficial e Subterrâne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p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ç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icador da interferên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e da entidade responsável (outorgad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F/CNP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F ou CNPJ da entidade responsá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ção, lançamento ou barrag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e interferência (captação de água superficial, captação de água subterrânea, lançamento de efluentes ou barrage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e do Est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íp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e do Municíp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idade Princip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idade do uso da água associado à interferên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itu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us decima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itude do ponto de captação, lançamento ou barrag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itu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us decima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itude do ponto de captação, lançamento ou barrag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po D'á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e do corpo d'água onde está localizada a interferên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ínio do Corpo D'á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ínio do Corpo D'á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_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ura_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_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m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 do reservatório existente (associado à barrage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ma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³/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zão máxima de captação ou de lançamento de efluen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³/dia (não seria m3/h ??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 diário médio captado ou lanç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as por 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me de captação ou de lançamento em horas por 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 por mê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me de captação ou de lançamento em dias por mê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,mm,mm,mm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es de captação ou lançamento, no formato: 01, 02, 03, 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ntração de DBO do efluente lanç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ósfo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ntração de fósforo total do efluente lanç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trogên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ntração de Nitrogênio total do efluente lanç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ção Outorg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ção da outorga (Outorgado, Não outorgável, Em anális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o Outorga/A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e ano do documento de outorga (resolução, portaria, etc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final outorg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d/mm/aa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de expiração da outorga emitida pelo órgão ges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Órg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Órgão gestor que emitiu a outorg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 Declaraç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ódigo da declaração no sistema original (ex. no CNARH, seria o número da última declaração válid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tângulo 4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063800" y="2305080"/>
            <a:ext cx="6994440" cy="2362320"/>
          </a:xfrm>
          <a:prstGeom prst="rect">
            <a:avLst/>
          </a:prstGeom>
          <a:ln w="0">
            <a:noFill/>
          </a:ln>
        </p:spPr>
      </p:pic>
      <p:sp>
        <p:nvSpPr>
          <p:cNvPr id="110" name="Retângulo 77"/>
          <p:cNvSpPr/>
          <p:nvPr/>
        </p:nvSpPr>
        <p:spPr>
          <a:xfrm>
            <a:off x="1285920" y="1357200"/>
            <a:ext cx="646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Tela de Autenticação do Usuá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(Autenticar o Usuári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tângulo 44"/>
          <p:cNvSpPr/>
          <p:nvPr/>
        </p:nvSpPr>
        <p:spPr>
          <a:xfrm>
            <a:off x="0" y="-14292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460520" y="2019240"/>
            <a:ext cx="6426360" cy="3143160"/>
          </a:xfrm>
          <a:prstGeom prst="rect">
            <a:avLst/>
          </a:prstGeom>
          <a:ln w="0">
            <a:noFill/>
          </a:ln>
        </p:spPr>
      </p:pic>
      <p:sp>
        <p:nvSpPr>
          <p:cNvPr id="116" name="Retângulo 77"/>
          <p:cNvSpPr/>
          <p:nvPr/>
        </p:nvSpPr>
        <p:spPr>
          <a:xfrm>
            <a:off x="1357200" y="932040"/>
            <a:ext cx="646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Tela Parametri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(Manter  Parametrização de Requisição de Banco de Da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2"/>
          <a:stretch/>
        </p:blipFill>
        <p:spPr>
          <a:xfrm>
            <a:off x="1428840" y="2000160"/>
            <a:ext cx="6484680" cy="2928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3"/>
          <a:stretch/>
        </p:blipFill>
        <p:spPr>
          <a:xfrm>
            <a:off x="1428840" y="2000160"/>
            <a:ext cx="6429240" cy="2928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97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19:38:44Z</dcterms:created>
  <dc:creator>emerson.ferreira</dc:creator>
  <dc:description/>
  <dc:language>en-US</dc:language>
  <cp:lastModifiedBy>raquel.ferreira</cp:lastModifiedBy>
  <dcterms:modified xsi:type="dcterms:W3CDTF">2011-05-10T18:32:03Z</dcterms:modified>
  <cp:revision>161</cp:revision>
  <dc:subject/>
  <dc:title>Slide 1</dc:title>
</cp:coreProperties>
</file>